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92F-BC0A-4A7A-AD01-F2986B55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46D-3BCC-4FE4-A802-EADA924C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031-2E53-41A0-ADF1-3741ED5B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E08-16A9-4C9A-A76C-B1AFA32B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DBE-9F35-4270-9975-C6A184A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EDBB-7042-4014-85E0-F2E98A77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4DEC-56A3-47D3-9CE2-A22C531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AFE5-4343-4FFE-A164-0BC6361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90CC-64BE-4F21-9ABD-88746E8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C2D-0FA1-4ADD-A738-ED184A2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ADB-6E60-42CF-89B2-AF90A51E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BC2-C3C4-44DE-8645-450A6EE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A235-8561-4995-824B-CB5F124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4B8-A822-4B2A-B495-0ECCA27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6A2-042C-46A6-82CF-28A596B3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7F8-D589-4C8B-B5CA-D53B359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A45C-7FF7-4A5F-8A7B-BEC8C46A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220-40D5-4D7F-878C-E2BD6AD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C32-7CAA-4E9F-AEE3-2E7948E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0ED-2580-4F18-8E9C-8B4EAF8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868-0AF3-47AF-8F87-AE7FA73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D5B-CE44-41EA-92A9-62430E7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3E1-F099-4E0C-B097-6F7EE5E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684-1618-4D0B-9EE4-808EB476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26AE-76C4-4480-BF76-D6CC1B9B2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583-76C3-4639-B80F-7FA4059B5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Как обеспечить условия безопасной работы за компьютеро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67280" y="4581000"/>
            <a:ext cx="3997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ли : Юля К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ра Ш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удентки КГ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8be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Мы считаем, что компьютеры</a:t>
            </a:r>
            <a:br>
              <a:rPr sz="4000"/>
            </a:b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вредны в любом возрасте...</a:t>
            </a:r>
            <a:br>
              <a:rPr sz="4000"/>
            </a:br>
            <a:r>
              <a:rPr b="0" lang="en-US" sz="4000" spc="-1" strike="noStrike">
                <a:solidFill>
                  <a:srgbClr val="f8bed0"/>
                </a:solidFill>
                <a:latin typeface="Arial"/>
              </a:rPr>
              <a:t>- Ну давайте телевизоры сломаем, компьютеры разобьем, на лошадей пересядем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3789360"/>
            <a:ext cx="3960720" cy="287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30268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Наша цель-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определить условия для безопасной работы на компьютер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5905800" cy="431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b10"/>
                </a:solidFill>
                <a:latin typeface="Arial"/>
              </a:rPr>
              <a:t>Сегодня российский рынок предлагает различные марки компьютеров из многих стран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b10"/>
                </a:solidFill>
                <a:latin typeface="Arial"/>
              </a:rPr>
              <a:t>Все они различаются по степени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288144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95892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Для безопасной работы соблюдай следующие услов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а правильная организация рабочего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ключение прямого солнечного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3311640" cy="252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ть расположения рабочего места в уголках комнаты или лицом к сте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асстояние от глаз до экрана компьютера должно быть не менее 50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403380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76720" y="119700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62028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ол и стул должны соответствовать росту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оводить зрительную гимнастику в середине занятия за компьют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67344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0707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считали, что компьютеры «враг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0707"/>
                </a:solidFill>
                <a:latin typeface="Arial"/>
              </a:rPr>
              <a:t>Н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уют условия при соблюдении которых компьютер становиться «друго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4392360" cy="35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панова М.И. Как обеспечить безопасное общение детей с компьютером // Образование.- 2003.-№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панова М.И. Правила безопасного общения с компьютером //Детский сад от А до Я.- 2003.-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3:15:08Z</dcterms:created>
  <dc:creator>User</dc:creator>
  <dc:description/>
  <dc:language>en-US</dc:language>
  <cp:lastModifiedBy>User</cp:lastModifiedBy>
  <dcterms:modified xsi:type="dcterms:W3CDTF">2009-05-20T14:14:37Z</dcterms:modified>
  <cp:revision>2</cp:revision>
  <dc:subject/>
  <dc:title>Как обеспечить условия безопасной работы за компьютером</dc:title>
</cp:coreProperties>
</file>